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707B-C764-4266-A41D-7AE71758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B3F4-6F08-4CC7-94CD-50C92D2B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228-A1EA-4E08-9C31-E6C424EE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45F1-4527-48DB-A68D-81A4B382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AF4-60B2-4D0F-A949-261FB9BB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24B-4A33-4650-BD04-3B931828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FFA-E1A9-46CA-B624-FCEAD17B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856-61F9-4AEF-B43F-6E8D9C6A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522-4230-44D0-BA05-5F171E4A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D2F-29AE-47DA-ABF4-39DB04BF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0B2-A22C-4B14-B209-5D49379F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3461-560A-4FE1-872E-4EF3BE93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8FC8-26F4-47B9-BC9A-EA71C7B04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295280" y="609480"/>
            <a:ext cx="6629400" cy="15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uschwit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905120" y="5638680"/>
            <a:ext cx="56386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y: Marissa St. Pier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3" name="Picture 7" descr="auschwitz"/>
          <p:cNvPicPr/>
          <p:nvPr/>
        </p:nvPicPr>
        <p:blipFill>
          <a:blip r:embed="rId1"/>
          <a:stretch/>
        </p:blipFill>
        <p:spPr>
          <a:xfrm>
            <a:off x="2590920" y="2362320"/>
            <a:ext cx="4008240" cy="2886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2590920" y="5257800"/>
            <a:ext cx="4038480" cy="2311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www.english.illinois.edu/MAPS/holocaust/essaypics/auschwitz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 Germany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symbol of the Holoca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d at Oswiemcim, Po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peration from May 1940 till January 1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 million people were murdered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sh prisoners, Soviet POW, Sinti Roma, Jehovah Witnesses, homosexuals, and mainly J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ught in by cattle-c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ed a number, shaved heads, striped uni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ctangle 5" descr=""/>
          <p:cNvPicPr/>
          <p:nvPr/>
        </p:nvPicPr>
        <p:blipFill>
          <a:blip r:embed="rId1"/>
          <a:stretch/>
        </p:blipFill>
        <p:spPr>
          <a:xfrm>
            <a:off x="682560" y="79200"/>
            <a:ext cx="7937640" cy="1159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photo1.jpg"/>
          <p:cNvPicPr/>
          <p:nvPr/>
        </p:nvPicPr>
        <p:blipFill>
          <a:blip r:embed="rId2"/>
          <a:stretch/>
        </p:blipFill>
        <p:spPr>
          <a:xfrm>
            <a:off x="5638680" y="1371600"/>
            <a:ext cx="2921040" cy="182880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5638680" y="3200400"/>
            <a:ext cx="3733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english.illinois.edu/MAPS/holocaust/essaypics/auschwitz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commander of Auschwi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ed in May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ed for 3 ½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s tested and perfecte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ques of mass k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ed with variou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g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s introduced the poison gas Zykl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yklon B was said to work within three to fifteen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tangle 5" descr=""/>
          <p:cNvPicPr/>
          <p:nvPr/>
        </p:nvPicPr>
        <p:blipFill>
          <a:blip r:embed="rId1"/>
          <a:stretch/>
        </p:blipFill>
        <p:spPr>
          <a:xfrm>
            <a:off x="2206800" y="79200"/>
            <a:ext cx="4962240" cy="1159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oessx.jpg"/>
          <p:cNvPicPr/>
          <p:nvPr/>
        </p:nvPicPr>
        <p:blipFill>
          <a:blip r:embed="rId2"/>
          <a:stretch/>
        </p:blipFill>
        <p:spPr>
          <a:xfrm>
            <a:off x="5562720" y="1447920"/>
            <a:ext cx="3098520" cy="232416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5562720" y="380988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www.cwporter.com/hoessx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yone could be up for selection: men, women, children or elder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y were told that it was only a show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victims would change in an outer chamber and then would walk into the actual gas chamb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gas chambers were disguis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 showers with dummy show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a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S men would dump in the cyani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llets through holes in the roo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re than 20,000 people could b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assed per 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tangle 5" descr=""/>
          <p:cNvPicPr/>
          <p:nvPr/>
        </p:nvPicPr>
        <p:blipFill>
          <a:blip r:embed="rId1"/>
          <a:stretch/>
        </p:blipFill>
        <p:spPr>
          <a:xfrm>
            <a:off x="1468440" y="6480"/>
            <a:ext cx="6456240" cy="115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photo2.jpg"/>
          <p:cNvPicPr/>
          <p:nvPr/>
        </p:nvPicPr>
        <p:blipFill>
          <a:blip r:embed="rId2"/>
          <a:stretch/>
        </p:blipFill>
        <p:spPr>
          <a:xfrm>
            <a:off x="5638680" y="3505320"/>
            <a:ext cx="310536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8"/>
          <p:cNvSpPr/>
          <p:nvPr/>
        </p:nvSpPr>
        <p:spPr>
          <a:xfrm>
            <a:off x="5562720" y="579132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english.illinois.edu/MAPS/holocaust/essaypics/auschwitz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700 prisoners tried to 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300 actually mad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punishments were death by sta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one did escape, the SS officers would pick 10 random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en random people would be killed for no r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23880" y="380880"/>
            <a:ext cx="64008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scaping Attemp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03848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Auschwitz/concentration camps time line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unior Scholas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5 Apr. 2005: T-7(2)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al One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eb. 15 Dec. 2009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tp://find.galegroup.com/gps/start.do?prodId=IPS&amp;userGroupName=s0940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uschwitz album: story of a death factory: Hitler's 'final solution of the Jewis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' sent millions to extermination in this installation's gas chambers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matoriums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SA To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Magazine] Mar. 2006: 28+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al One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eb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Dec. 2009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tp://find.galegroup.com/gps/start.do?prodId=IPS&amp;userGroupName=s0940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Auschwitz: A History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ublishers Week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52.20 (2005): 47+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al One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. 15 Dec. 2009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tp://find.galegroup.com/gps/start.do?prodId=IPS&amp;userGroupName=s0940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chloss, Michael. "FDR's Auschwitz Secret: In an exclusive excerpt from his new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k, historian Michael Beschloss reveals the untold story of how Frankl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osevelt decided against bombing the Nazi death camp.(Excerpt)."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ewswee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4 Oct. 2002: 37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al One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eb. 15 Dec. 2009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tp://find.galegroup.com/gps/start.do?prodId=IPS&amp;userGroupName=s0940&gt;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828800" y="304920"/>
            <a:ext cx="5181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ibliograph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03:14Z</dcterms:created>
  <dc:creator>20952</dc:creator>
  <dc:description/>
  <dc:language>en-US</dc:language>
  <cp:lastModifiedBy>20952</cp:lastModifiedBy>
  <dcterms:modified xsi:type="dcterms:W3CDTF">2009-12-15T15:02:18Z</dcterms:modified>
  <cp:revision>16</cp:revision>
  <dc:subject/>
  <dc:title>Slide 1</dc:title>
</cp:coreProperties>
</file>